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98D-702E-4DD7-8558-E93A6850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3DC-9B9A-48AB-A1C9-1FC1E7B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85C-FD06-466D-9A81-C156BF1D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85D-F7AF-4997-857B-54E41E29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08B9-D799-4CED-BF69-42EB1783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B53A-CC01-4C47-9183-882317CC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E9B5-DADC-44A3-9993-A02D52D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97D-6857-4506-9E55-6CB7068A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904A-ADA5-4F5F-8BB3-5B5456B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4831-664A-4CAA-8B6D-1C2581A7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0D8E-D46F-4E7B-9AC8-5735BD77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640-CE68-4738-B3CE-88B87EC0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9E88-4EFF-4009-9AF6-BCF5172B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F8D7-1D39-448A-AD06-F0F975A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5563-D09A-4334-B079-B7D95494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989-25FF-4E78-AC93-71B3DF8B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1406-1510-48A4-B69F-26862E75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B1E-B92D-449D-9E23-F1F664F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027-686B-4078-A82C-479A6431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85F-6D82-45F4-9C34-431F659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120-D78B-4594-A378-27A41786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981-D22A-40D5-B62C-1A63944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051-7B28-410E-916A-CFBF97C9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BFA-F345-46AF-96C7-6C3D7D1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73D7-E13D-413B-BC20-C552678044C4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27DC-36B0-4942-A7B4-2706D3EB6C51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orangutans.com.au/" TargetMode="External"/><Relationship Id="rId3" Type="http://schemas.openxmlformats.org/officeDocument/2006/relationships/hyperlink" Target="http://www.youtube.com/watch?v=g_PSSwtjZiE&amp;feature=player_embedded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58760" y="755640"/>
            <a:ext cx="9326520" cy="323676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146160" y="1146240"/>
            <a:ext cx="9235800" cy="2292120"/>
          </a:xfrm>
          <a:prstGeom prst="rect">
            <a:avLst/>
          </a:prstGeom>
          <a:ln w="0">
            <a:noFill/>
          </a:ln>
        </p:spPr>
      </p:pic>
      <p:sp>
        <p:nvSpPr>
          <p:cNvPr id="117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BOYCOTT MEANS: TO REFUSE A COMPANY’S BUSINESS OR PRODUCT BECAUSE THEY ARE DOING THE WRONG THING.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WE CAN BOYCOTT BY REFUSING TO BUY THEIR PRODUCTS UNTIL THEY DO THE RIGHT THING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IF EVERYONE BOYCOTTS THE BUSINESS PRODUCT, WHY MIGHT THIS WORK?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536400" y="-30240"/>
            <a:ext cx="8242560" cy="179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735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Video 1: 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orangutans.com.au/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Video 2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youtube.com/watch?v=g_PSSwtjZiE&amp;feature=player_embedded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9" name="Date Placeholder 5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-85680" y="536400"/>
            <a:ext cx="9169200" cy="2382840"/>
          </a:xfrm>
          <a:prstGeom prst="rect">
            <a:avLst/>
          </a:prstGeom>
          <a:ln w="0">
            <a:noFill/>
          </a:ln>
        </p:spPr>
      </p:pic>
      <p:sp>
        <p:nvSpPr>
          <p:cNvPr id="13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116000" y="2924280"/>
            <a:ext cx="54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(Group A discuss Video 1, Group B discuss Video 2)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What did you see? (Describe two negative scenes and two positive scenes)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What was the message? 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ce3d3"/>
                </a:solidFill>
                <a:latin typeface="Arial"/>
              </a:rPr>
              <a:t>Conclude: so...what IS the situation?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buClr>
                <a:srgbClr val="dce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963720" y="-6480"/>
            <a:ext cx="7100640" cy="1987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42840">
              <a:spcBef>
                <a:spcPts val="499"/>
              </a:spcBef>
              <a:buClr>
                <a:srgbClr val="d7de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They are considered to be highly intelligent animal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>
              <a:spcBef>
                <a:spcPts val="499"/>
              </a:spcBef>
              <a:buClr>
                <a:srgbClr val="d7de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When a number of orang-utans come together to eat, the youngsters often play together while the adults ignore one another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>
              <a:spcBef>
                <a:spcPts val="499"/>
              </a:spcBef>
              <a:buClr>
                <a:srgbClr val="d7de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Male orang-utans are territorial. They sometimes fight against other male orang-utans, defending their territorie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1. VOCAB 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2. Research topic: ORANG-UTAN’S PREDATOR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-6480" y="16524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755640" y="1484280"/>
            <a:ext cx="789300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e3e9dd"/>
                </a:solidFill>
                <a:latin typeface="Arial"/>
              </a:rPr>
              <a:t>OUTLINE: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PELLING TEST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IND MAP RESPONSE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GLOSSARY SHEET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AF FACTS: FOOD, SHELTER/LIVING, HABITAT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CLASS ACTIVITIES: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 lvl="1" marL="49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WO THINGS YOU LEARNT FROM THE ZOO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 lvl="1" marL="49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BOYCOTTING PALM OIL : WHAT, HOW AND WHY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 lvl="1" marL="49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ALM OIL PRODUCTS: WATCH OUT!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VOCAB; Research topic: ORANG-UTAN’S PREDATOR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7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603360" y="49320"/>
            <a:ext cx="8412120" cy="2517840"/>
          </a:xfrm>
          <a:prstGeom prst="rect">
            <a:avLst/>
          </a:prstGeom>
          <a:ln w="0">
            <a:noFill/>
          </a:ln>
        </p:spPr>
      </p:pic>
      <p:sp>
        <p:nvSpPr>
          <p:cNvPr id="90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92" name="Picture 10" descr="http://www.african-safari-journals.com/image-files/orangutan-pictures.jpg"/>
          <p:cNvPicPr/>
          <p:nvPr/>
        </p:nvPicPr>
        <p:blipFill>
          <a:blip r:embed="rId2"/>
          <a:stretch/>
        </p:blipFill>
        <p:spPr>
          <a:xfrm>
            <a:off x="3059280" y="2565360"/>
            <a:ext cx="3240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836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BETHANY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EMILY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TOBY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DYLAN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SARAH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REBECCA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ce3d3"/>
                </a:solidFill>
                <a:latin typeface="Book Antiqua"/>
              </a:rPr>
              <a:t>GEORGIA: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63680" y="1816200"/>
            <a:ext cx="8242200" cy="214632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07" name="Picture 7" descr="http://www.celsias.co.nz/media/uploads/admin/product-selection.jpg"/>
          <p:cNvPicPr/>
          <p:nvPr/>
        </p:nvPicPr>
        <p:blipFill>
          <a:blip r:embed="rId2"/>
          <a:stretch/>
        </p:blipFill>
        <p:spPr>
          <a:xfrm>
            <a:off x="1547640" y="1628640"/>
            <a:ext cx="56772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1" name="Picture 7" descr="http://img.alibaba.com/photo/11451535/Palm_Oil_Products_Soap_Lotion_Shower_Foam_Hair_Oil.jpg"/>
          <p:cNvPicPr/>
          <p:nvPr/>
        </p:nvPicPr>
        <p:blipFill>
          <a:blip r:embed="rId2"/>
          <a:stretch/>
        </p:blipFill>
        <p:spPr>
          <a:xfrm>
            <a:off x="1403280" y="1341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5" name="Picture 2" descr="http://www.blog.thesietch.org/wp-content/uploads/2008/04/shopping-palm-oil-products.jpg"/>
          <p:cNvPicPr/>
          <p:nvPr/>
        </p:nvPicPr>
        <p:blipFill>
          <a:blip r:embed="rId2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0:01:51Z</dcterms:created>
  <dc:creator>Taylor</dc:creator>
  <dc:description/>
  <dc:language>en-US</dc:language>
  <cp:lastModifiedBy>Education</cp:lastModifiedBy>
  <dcterms:modified xsi:type="dcterms:W3CDTF">2010-08-03T02:50:42Z</dcterms:modified>
  <cp:revision>46</cp:revision>
  <dc:subject/>
  <dc:title>DEFORESTATION</dc:title>
</cp:coreProperties>
</file>